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3E26-1C5B-4470-827F-BECC70FE315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5420-A6E2-402A-8010-63ACCE6704A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C5EF-27BE-4AA6-981E-A3A551A678C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E4E0-13FF-471D-A6F3-5034A1B0BBE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4502-D423-4A9B-9E11-DCCE6EF76C6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단어카드A4반"/>
          <p:cNvPicPr/>
          <p:nvPr/>
        </p:nvPicPr>
        <p:blipFill>
          <a:blip r:embed="rId2"/>
          <a:stretch/>
        </p:blipFill>
        <p:spPr>
          <a:xfrm>
            <a:off x="-316080" y="0"/>
            <a:ext cx="7562880" cy="914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苹果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苹果怎么卖？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사과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píngguǒ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本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5"/>
          <p:cNvSpPr/>
          <p:nvPr/>
        </p:nvSpPr>
        <p:spPr>
          <a:xfrm rot="10800000">
            <a:off x="328320" y="5189400"/>
            <a:ext cx="627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这本书多少钱？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6"/>
          <p:cNvSpPr/>
          <p:nvPr/>
        </p:nvSpPr>
        <p:spPr>
          <a:xfrm rot="10800000">
            <a:off x="403200" y="6495840"/>
            <a:ext cx="62676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500" spc="-1" strike="noStrike">
                <a:solidFill>
                  <a:srgbClr val="000000"/>
                </a:solidFill>
                <a:latin typeface="굴림"/>
              </a:rPr>
              <a:t>권</a:t>
            </a:r>
            <a:r>
              <a:rPr b="0" lang="en-US" sz="55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5500" spc="-1" strike="noStrike">
                <a:solidFill>
                  <a:srgbClr val="000000"/>
                </a:solidFill>
                <a:latin typeface="굴림"/>
              </a:rPr>
              <a:t>책을 세는 단위</a:t>
            </a:r>
            <a:r>
              <a:rPr b="0" lang="en-US" sz="55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5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bě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角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 Box 5"/>
          <p:cNvSpPr/>
          <p:nvPr/>
        </p:nvSpPr>
        <p:spPr>
          <a:xfrm rot="10800000">
            <a:off x="0" y="5100120"/>
            <a:ext cx="714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六块一角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 Box 6"/>
          <p:cNvSpPr/>
          <p:nvPr/>
        </p:nvSpPr>
        <p:spPr>
          <a:xfrm rot="10800000">
            <a:off x="401400" y="6609960"/>
            <a:ext cx="626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000000"/>
                </a:solidFill>
                <a:latin typeface="굴림"/>
              </a:rPr>
              <a:t>지아오</a:t>
            </a:r>
            <a:r>
              <a:rPr b="0" lang="en-US" sz="5000" spc="-1" strike="noStrike">
                <a:solidFill>
                  <a:srgbClr val="000000"/>
                </a:solidFill>
                <a:latin typeface="굴림"/>
              </a:rPr>
              <a:t>(1/10 </a:t>
            </a:r>
            <a:r>
              <a:rPr b="0" lang="ko-KR" sz="5000" spc="-1" strike="noStrike">
                <a:solidFill>
                  <a:srgbClr val="000000"/>
                </a:solidFill>
                <a:latin typeface="굴림"/>
              </a:rPr>
              <a:t>위안</a:t>
            </a:r>
            <a:r>
              <a:rPr b="0" lang="en-US" sz="5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iǎ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毛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一块两毛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마오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(1/10 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위안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má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0" spc="-1" strike="noStrike">
                <a:solidFill>
                  <a:srgbClr val="000000"/>
                </a:solidFill>
                <a:latin typeface="굴림"/>
              </a:rPr>
              <a:t>分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Text Box 5"/>
          <p:cNvSpPr/>
          <p:nvPr/>
        </p:nvSpPr>
        <p:spPr>
          <a:xfrm rot="10800000">
            <a:off x="142560" y="5138280"/>
            <a:ext cx="67150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5500" spc="-1" strike="noStrike">
                <a:solidFill>
                  <a:srgbClr val="000000"/>
                </a:solidFill>
                <a:latin typeface="굴림"/>
              </a:rPr>
              <a:t>毛</a:t>
            </a:r>
            <a:r>
              <a:rPr b="1" lang="en-US" sz="55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5500" spc="-1" strike="noStrike">
                <a:solidFill>
                  <a:srgbClr val="000000"/>
                </a:solidFill>
                <a:latin typeface="굴림"/>
              </a:rPr>
              <a:t>分</a:t>
            </a:r>
            <a:endParaRPr b="0" lang="en-US" sz="5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펀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(1/100 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위안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fē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件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 Box 5"/>
          <p:cNvSpPr/>
          <p:nvPr/>
        </p:nvSpPr>
        <p:spPr>
          <a:xfrm rot="10800000">
            <a:off x="329760" y="5071320"/>
            <a:ext cx="627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这件衣服多少钱？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 Box 6"/>
          <p:cNvSpPr/>
          <p:nvPr/>
        </p:nvSpPr>
        <p:spPr>
          <a:xfrm rot="10800000">
            <a:off x="403200" y="6472440"/>
            <a:ext cx="62676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800" spc="-1" strike="noStrike">
                <a:solidFill>
                  <a:srgbClr val="000000"/>
                </a:solidFill>
                <a:latin typeface="굴림"/>
              </a:rPr>
              <a:t>벌</a:t>
            </a:r>
            <a:r>
              <a:rPr b="0" lang="en-US" sz="5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5800" spc="-1" strike="noStrike">
                <a:solidFill>
                  <a:srgbClr val="000000"/>
                </a:solidFill>
                <a:latin typeface="굴림"/>
              </a:rPr>
              <a:t>옷을 세는 단위</a:t>
            </a:r>
            <a:r>
              <a:rPr b="0" lang="en-US" sz="5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5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iàn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衣服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 Box 5"/>
          <p:cNvSpPr/>
          <p:nvPr/>
        </p:nvSpPr>
        <p:spPr>
          <a:xfrm rot="10800000">
            <a:off x="329760" y="5054760"/>
            <a:ext cx="62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这件衣服太贵了。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옷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īfu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百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 Box 5"/>
          <p:cNvSpPr/>
          <p:nvPr/>
        </p:nvSpPr>
        <p:spPr>
          <a:xfrm rot="10800000">
            <a:off x="0" y="510012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一百块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백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, 100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bǎ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太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太贵了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너무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tà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333360" y="111600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굴림"/>
              </a:rPr>
              <a:t>贵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Text Box 5"/>
          <p:cNvSpPr/>
          <p:nvPr/>
        </p:nvSpPr>
        <p:spPr>
          <a:xfrm rot="10800000">
            <a:off x="0" y="505440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这件衣服太贵了</a:t>
            </a:r>
            <a:r>
              <a:rPr b="1" lang="zh-CN" sz="50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비싸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 Box 7"/>
          <p:cNvSpPr/>
          <p:nvPr/>
        </p:nvSpPr>
        <p:spPr>
          <a:xfrm rot="10800000">
            <a:off x="404640" y="758880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굴림"/>
              </a:rPr>
              <a:t>guì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便宜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不便宜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싸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piány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卖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苹果怎么卖？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6"/>
          <p:cNvSpPr/>
          <p:nvPr/>
        </p:nvSpPr>
        <p:spPr>
          <a:xfrm rot="10800000">
            <a:off x="428400" y="6366960"/>
            <a:ext cx="62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팔다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mài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0" spc="-1" strike="noStrike">
                <a:solidFill>
                  <a:srgbClr val="000000"/>
                </a:solidFill>
                <a:latin typeface="굴림"/>
              </a:rPr>
              <a:t>一点儿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5"/>
          <p:cNvSpPr/>
          <p:nvPr/>
        </p:nvSpPr>
        <p:spPr>
          <a:xfrm rot="10800000">
            <a:off x="329760" y="5054760"/>
            <a:ext cx="62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便宜一点儿吧</a:t>
            </a:r>
            <a:r>
              <a:rPr b="1" lang="zh-CN" sz="50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조금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ìdiǎnr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杯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 Box 5"/>
          <p:cNvSpPr/>
          <p:nvPr/>
        </p:nvSpPr>
        <p:spPr>
          <a:xfrm rot="10800000">
            <a:off x="329760" y="5054760"/>
            <a:ext cx="62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一杯水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잔</a:t>
            </a:r>
            <a:r>
              <a:rPr b="0" lang="en-US" sz="7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단위</a:t>
            </a:r>
            <a:r>
              <a:rPr b="0" lang="en-US" sz="7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bē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茶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Text Box 5"/>
          <p:cNvSpPr/>
          <p:nvPr/>
        </p:nvSpPr>
        <p:spPr>
          <a:xfrm rot="10800000">
            <a:off x="0" y="505440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一杯茶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차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chá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0" spc="-1" strike="noStrike">
                <a:solidFill>
                  <a:srgbClr val="000000"/>
                </a:solidFill>
                <a:latin typeface="굴림"/>
              </a:rPr>
              <a:t>张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5"/>
          <p:cNvSpPr/>
          <p:nvPr/>
        </p:nvSpPr>
        <p:spPr>
          <a:xfrm rot="10800000">
            <a:off x="142560" y="505440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一张纸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장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단위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hā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纸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5"/>
          <p:cNvSpPr/>
          <p:nvPr/>
        </p:nvSpPr>
        <p:spPr>
          <a:xfrm rot="10800000">
            <a:off x="213840" y="5054760"/>
            <a:ext cx="66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要两张纸。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종이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hǐ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饱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 Box 5"/>
          <p:cNvSpPr/>
          <p:nvPr/>
        </p:nvSpPr>
        <p:spPr>
          <a:xfrm rot="10800000">
            <a:off x="329760" y="5054760"/>
            <a:ext cx="62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太饱了。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배부르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bǎ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快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快一点儿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빠르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kuà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慢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Text Box 5"/>
          <p:cNvSpPr/>
          <p:nvPr/>
        </p:nvSpPr>
        <p:spPr>
          <a:xfrm rot="10800000">
            <a:off x="329760" y="5054760"/>
            <a:ext cx="62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慢一点儿！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느리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mà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打折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 Box 5"/>
          <p:cNvSpPr/>
          <p:nvPr/>
        </p:nvSpPr>
        <p:spPr>
          <a:xfrm rot="10800000">
            <a:off x="0" y="5130720"/>
            <a:ext cx="68580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굴림"/>
              </a:rPr>
              <a:t>打折吗？</a:t>
            </a:r>
            <a:endParaRPr b="0" lang="en-US" sz="5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가격을 내리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dǎzh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售货员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姐姐是售货员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판매원 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 Box 7"/>
          <p:cNvSpPr/>
          <p:nvPr/>
        </p:nvSpPr>
        <p:spPr>
          <a:xfrm rot="10800000">
            <a:off x="404640" y="6424920"/>
            <a:ext cx="626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hòuhuòyuá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块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苹果三块一斤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화폐 단위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kuài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斤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苹果要三斤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근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ī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要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你要几斤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원하다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필요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à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一共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Text Box 5"/>
          <p:cNvSpPr/>
          <p:nvPr/>
        </p:nvSpPr>
        <p:spPr>
          <a:xfrm rot="10800000">
            <a:off x="329760" y="5071320"/>
            <a:ext cx="627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一共要三斤苹果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모두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합해서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ígò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钱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一共多少钱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돈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qiá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两元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위안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화폐 단위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Text Box 7"/>
          <p:cNvSpPr/>
          <p:nvPr/>
        </p:nvSpPr>
        <p:spPr>
          <a:xfrm rot="10800000">
            <a:off x="590400" y="6336360"/>
            <a:ext cx="626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굴림"/>
              </a:rPr>
              <a:t>yuán 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0:55:21Z</dcterms:created>
  <dc:creator>Administrator</dc:creator>
  <dc:description/>
  <dc:language>en-US</dc:language>
  <cp:lastModifiedBy>Digital NEX</cp:lastModifiedBy>
  <dcterms:modified xsi:type="dcterms:W3CDTF">2012-05-17T05:31:32Z</dcterms:modified>
  <cp:revision>207</cp:revision>
  <dc:subject/>
  <dc:title>슬라이드 1</dc:title>
</cp:coreProperties>
</file>